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1314113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5272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745920" y="771480"/>
            <a:ext cx="5305320" cy="37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43000"/>
            <a:ext cx="49845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5272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C861D-55E7-46B2-BCF6-80EF88F6E6D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85272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1FE2F-E42E-47B6-9FBE-301B7D113C2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85272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770040" y="744480"/>
            <a:ext cx="526392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45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8960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4112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8960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34112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49240" y="711360"/>
            <a:ext cx="96170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761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932120" indent="-2764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3.jpe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vati.hu/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3.jpe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5840" y="1440"/>
            <a:ext cx="11283840" cy="79981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407600"/>
            <a:ext cx="11315880" cy="2087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IMIR 2007-2013 monitoring és </a:t>
            </a:r>
            <a:br>
              <a:rPr sz="4400"/>
            </a:b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információs rendszer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360" y="3639600"/>
            <a:ext cx="11315880" cy="2232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Partneri szeminárium magyar partnerek részér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Budapest, 2012. október 18.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Imréné Bagi Szonj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hu-HU" sz="1800" spc="-1" strike="noStrike">
                <a:solidFill>
                  <a:srgbClr val="006666"/>
                </a:solidFill>
                <a:latin typeface="Calibri"/>
              </a:rPr>
              <a:t>Európai Együttműködési Programok Igazgatósá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Calibri"/>
              </a:rPr>
              <a:t>Folyamatszabályozási és IMIR Cso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128680" y="1913040"/>
            <a:ext cx="6120000" cy="5145120"/>
          </a:xfrm>
          <a:prstGeom prst="rect">
            <a:avLst/>
          </a:prstGeom>
          <a:ln w="0">
            <a:noFill/>
          </a:ln>
        </p:spPr>
      </p:pic>
      <p:sp>
        <p:nvSpPr>
          <p:cNvPr id="114" name="Title 1"/>
          <p:cNvSpPr/>
          <p:nvPr/>
        </p:nvSpPr>
        <p:spPr>
          <a:xfrm>
            <a:off x="1770120" y="471600"/>
            <a:ext cx="663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artneri jelentés – dokumentum generálás,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elektronikus benyújtá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4680" y="2128680"/>
            <a:ext cx="103057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54160" indent="-414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4160" indent="-414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10480" y="3424320"/>
            <a:ext cx="1584360" cy="57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37400" y="6521400"/>
            <a:ext cx="792000" cy="57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rcRect l="25904" t="50618" r="70050" b="43506"/>
          <a:stretch/>
        </p:blipFill>
        <p:spPr>
          <a:xfrm>
            <a:off x="8537400" y="3279600"/>
            <a:ext cx="714600" cy="863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rcRect l="25904" t="58277" r="70050" b="35640"/>
          <a:stretch/>
        </p:blipFill>
        <p:spPr>
          <a:xfrm>
            <a:off x="8394840" y="6232680"/>
            <a:ext cx="747720" cy="933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husk_logo_hu"/>
          <p:cNvPicPr/>
          <p:nvPr/>
        </p:nvPicPr>
        <p:blipFill>
          <a:blip r:embed="rId5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3425760" y="3568680"/>
            <a:ext cx="269892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tle 1"/>
          <p:cNvSpPr/>
          <p:nvPr/>
        </p:nvSpPr>
        <p:spPr>
          <a:xfrm>
            <a:off x="1625760" y="476280"/>
            <a:ext cx="82803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Technikai </a:t>
            </a:r>
            <a:br>
              <a:rPr sz="4400"/>
            </a:b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információ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Content Placeholder 2"/>
          <p:cNvSpPr/>
          <p:nvPr/>
        </p:nvSpPr>
        <p:spPr>
          <a:xfrm>
            <a:off x="539640" y="1557360"/>
            <a:ext cx="1008720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Online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rendszer</a:t>
            </a: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 (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Interneten keresztül érhető el</a:t>
            </a: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1 időben - 1 projektrész – 1 online 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A képernyők és az adatbevitel nyelve: ang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Java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platformra kialakított technológia</a:t>
            </a: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, Oracle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alapú adatbázis, titkosított kliens-szerver kommunikáció (Certificate: személyes kulcs használ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A rendszer által használt programok: Internet Explorer/Mozilla Firefox, MS Office, Adobe Pdf reader,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554120" y="2776680"/>
            <a:ext cx="8631360" cy="30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4800" spc="-1" strike="noStrike">
                <a:solidFill>
                  <a:srgbClr val="006666"/>
                </a:solidFill>
                <a:latin typeface="Calibri"/>
              </a:rPr>
              <a:t>Köszönöm szíves figyelmüke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Tel: 06-1-224-32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ax:06-1-224-32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-mail: imisoffice@vati.h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3400" y="54468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IMIR 2007-2013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monitoring és információs rendsz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9040" y="205560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-514440" algn="just">
              <a:lnSpc>
                <a:spcPct val="100000"/>
              </a:lnSpc>
              <a:spcBef>
                <a:spcPts val="77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100" spc="-1" strike="noStrike">
                <a:solidFill>
                  <a:srgbClr val="006666"/>
                </a:solidFill>
                <a:latin typeface="Calibri"/>
              </a:rPr>
              <a:t>Vezető partner – projekt partner: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500" spc="-1" strike="noStrike">
                <a:solidFill>
                  <a:srgbClr val="ff0000"/>
                </a:solidFill>
                <a:latin typeface="Calibri"/>
              </a:rPr>
              <a:t>Minden magyar projekt partner</a:t>
            </a:r>
            <a:r>
              <a:rPr b="0" lang="hu-HU" sz="2500" spc="-1" strike="noStrike">
                <a:solidFill>
                  <a:srgbClr val="006666"/>
                </a:solidFill>
                <a:latin typeface="Calibri"/>
              </a:rPr>
              <a:t> (akinek vezető partneri feladata is van, az is, mint projekt partner) a </a:t>
            </a:r>
            <a:r>
              <a:rPr b="0" lang="hu-HU" sz="2500" spc="-1" strike="noStrike">
                <a:solidFill>
                  <a:srgbClr val="ff0000"/>
                </a:solidFill>
                <a:latin typeface="Calibri"/>
              </a:rPr>
              <a:t>PARTNERI JELENTÉSÉT</a:t>
            </a:r>
            <a:r>
              <a:rPr b="0" lang="hu-HU" sz="2500" spc="-1" strike="noStrike">
                <a:solidFill>
                  <a:srgbClr val="006666"/>
                </a:solidFill>
                <a:latin typeface="Calibri"/>
              </a:rPr>
              <a:t> az IMIR 2007-2013 Front Office felületén készíti el, és nyújtja be – „Front Office projekt partnerek részére”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500" spc="-1" strike="noStrike">
                <a:solidFill>
                  <a:srgbClr val="006666"/>
                </a:solidFill>
                <a:latin typeface="Calibri"/>
              </a:rPr>
              <a:t>A vezető partnerek a PROJEKT JELENTÉSÜKET a HU-SK JTS-el egyeztetik annak készítésének és benyújtásának módját; az IMIR 2007-2013 Front Office felületén készítik el, és nyújtják be – „Front Office for Lead partners”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489040" y="1839960"/>
            <a:ext cx="936720" cy="2009880"/>
          </a:xfrm>
          <a:prstGeom prst="cloudCallout">
            <a:avLst>
              <a:gd name="adj1" fmla="val 236777"/>
              <a:gd name="adj2" fmla="val -34754"/>
            </a:avLst>
          </a:prstGeom>
          <a:solidFill>
            <a:srgbClr val="99cc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9960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IMIR 2007-2013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monitoring és információs rendsz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86120" y="1479600"/>
            <a:ext cx="4319640" cy="5041800"/>
          </a:xfrm>
          <a:custGeom>
            <a:avLst/>
            <a:gdLst>
              <a:gd name="textAreaLeft" fmla="*/ 116280 w 4319640"/>
              <a:gd name="textAreaRight" fmla="*/ 4203360 w 4319640"/>
              <a:gd name="textAreaTop" fmla="*/ 116280 h 5041800"/>
              <a:gd name="textAreaBottom" fmla="*/ 4925520 h 5041800"/>
            </a:gdLst>
            <a:ahLst/>
            <a:rect l="textAreaLeft" t="textAreaTop" r="textAreaRight" b="textAreaBottom"/>
            <a:pathLst>
              <a:path w="21600" h="25211">
                <a:moveTo>
                  <a:pt x="1987" y="0"/>
                </a:moveTo>
                <a:arcTo wR="1987" hR="1987" stAng="16200000" swAng="-5400000"/>
                <a:lnTo>
                  <a:pt x="0" y="23224"/>
                </a:lnTo>
                <a:arcTo wR="1987" hR="1987" stAng="10800000" swAng="-5400000"/>
                <a:lnTo>
                  <a:pt x="19613" y="25211"/>
                </a:lnTo>
                <a:arcTo wR="1987" hR="1987" stAng="5400000" swAng="-5400000"/>
                <a:lnTo>
                  <a:pt x="21600" y="1987"/>
                </a:lnTo>
                <a:arcTo wR="1987" hR="1987" stAng="0" swAng="-5400000"/>
                <a:close/>
              </a:path>
            </a:pathLst>
          </a:custGeom>
          <a:solidFill>
            <a:srgbClr val="ffffff">
              <a:alpha val="46000"/>
            </a:srgbClr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57760" y="1984320"/>
            <a:ext cx="4176720" cy="1800360"/>
          </a:xfrm>
          <a:prstGeom prst="rect">
            <a:avLst/>
          </a:prstGeom>
          <a:solidFill>
            <a:srgbClr val="6f9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Calibri"/>
              </a:rPr>
              <a:t>Front Off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00"/>
                </a:solidFill>
                <a:latin typeface="Arial"/>
              </a:rPr>
              <a:t>Partneri jelenté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00"/>
                </a:solidFill>
                <a:latin typeface="Arial"/>
              </a:rPr>
              <a:t>készítése 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00"/>
                </a:solidFill>
                <a:latin typeface="Arial"/>
              </a:rPr>
              <a:t>benyújtá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29040" y="4361040"/>
            <a:ext cx="4105440" cy="1871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ack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00"/>
                </a:solidFill>
                <a:latin typeface="Arial"/>
              </a:rPr>
              <a:t>Hitelesít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544680" y="1984320"/>
            <a:ext cx="1632960" cy="1849320"/>
            <a:chOff x="544680" y="1984320"/>
            <a:chExt cx="1632960" cy="1849320"/>
          </a:xfrm>
        </p:grpSpPr>
        <p:sp>
          <p:nvSpPr>
            <p:cNvPr id="58" name=""/>
            <p:cNvSpPr/>
            <p:nvPr/>
          </p:nvSpPr>
          <p:spPr>
            <a:xfrm>
              <a:off x="693720" y="1984320"/>
              <a:ext cx="861480" cy="893880"/>
            </a:xfrm>
            <a:custGeom>
              <a:avLst/>
              <a:gdLst/>
              <a:ahLst/>
              <a:rect l="l" t="t" r="r" b="b"/>
              <a:pathLst>
                <a:path w="356" h="436">
                  <a:moveTo>
                    <a:pt x="48" y="436"/>
                  </a:moveTo>
                  <a:cubicBezTo>
                    <a:pt x="0" y="396"/>
                    <a:pt x="32" y="244"/>
                    <a:pt x="48" y="196"/>
                  </a:cubicBezTo>
                  <a:cubicBezTo>
                    <a:pt x="64" y="148"/>
                    <a:pt x="130" y="182"/>
                    <a:pt x="144" y="148"/>
                  </a:cubicBezTo>
                  <a:cubicBezTo>
                    <a:pt x="153" y="133"/>
                    <a:pt x="114" y="117"/>
                    <a:pt x="114" y="78"/>
                  </a:cubicBezTo>
                  <a:cubicBezTo>
                    <a:pt x="111" y="36"/>
                    <a:pt x="128" y="0"/>
                    <a:pt x="192" y="4"/>
                  </a:cubicBezTo>
                  <a:cubicBezTo>
                    <a:pt x="243" y="10"/>
                    <a:pt x="256" y="27"/>
                    <a:pt x="264" y="66"/>
                  </a:cubicBezTo>
                  <a:cubicBezTo>
                    <a:pt x="270" y="111"/>
                    <a:pt x="231" y="120"/>
                    <a:pt x="240" y="148"/>
                  </a:cubicBezTo>
                  <a:cubicBezTo>
                    <a:pt x="246" y="169"/>
                    <a:pt x="321" y="148"/>
                    <a:pt x="336" y="196"/>
                  </a:cubicBezTo>
                  <a:cubicBezTo>
                    <a:pt x="351" y="244"/>
                    <a:pt x="356" y="380"/>
                    <a:pt x="328" y="436"/>
                  </a:cubicBezTo>
                  <a:lnTo>
                    <a:pt x="48" y="436"/>
                  </a:lnTo>
                  <a:close/>
                </a:path>
              </a:pathLst>
            </a:custGeom>
            <a:solidFill>
              <a:srgbClr val="003399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44680" y="3008160"/>
              <a:ext cx="1615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Projekt partn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1539720" y="2647800"/>
              <a:ext cx="637920" cy="379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8754480" y="4145040"/>
            <a:ext cx="2364480" cy="2199240"/>
            <a:chOff x="8754480" y="4145040"/>
            <a:chExt cx="2364480" cy="2199240"/>
          </a:xfrm>
        </p:grpSpPr>
        <p:sp>
          <p:nvSpPr>
            <p:cNvPr id="62" name=""/>
            <p:cNvSpPr/>
            <p:nvPr/>
          </p:nvSpPr>
          <p:spPr>
            <a:xfrm>
              <a:off x="9545760" y="4145040"/>
              <a:ext cx="776160" cy="879120"/>
            </a:xfrm>
            <a:custGeom>
              <a:avLst/>
              <a:gdLst/>
              <a:ahLst/>
              <a:rect l="l" t="t" r="r" b="b"/>
              <a:pathLst>
                <a:path w="356" h="436">
                  <a:moveTo>
                    <a:pt x="48" y="436"/>
                  </a:moveTo>
                  <a:cubicBezTo>
                    <a:pt x="0" y="396"/>
                    <a:pt x="32" y="244"/>
                    <a:pt x="48" y="196"/>
                  </a:cubicBezTo>
                  <a:cubicBezTo>
                    <a:pt x="64" y="148"/>
                    <a:pt x="130" y="182"/>
                    <a:pt x="144" y="148"/>
                  </a:cubicBezTo>
                  <a:cubicBezTo>
                    <a:pt x="153" y="133"/>
                    <a:pt x="114" y="117"/>
                    <a:pt x="114" y="78"/>
                  </a:cubicBezTo>
                  <a:cubicBezTo>
                    <a:pt x="111" y="36"/>
                    <a:pt x="128" y="0"/>
                    <a:pt x="192" y="4"/>
                  </a:cubicBezTo>
                  <a:cubicBezTo>
                    <a:pt x="243" y="10"/>
                    <a:pt x="256" y="27"/>
                    <a:pt x="264" y="66"/>
                  </a:cubicBezTo>
                  <a:cubicBezTo>
                    <a:pt x="270" y="111"/>
                    <a:pt x="231" y="120"/>
                    <a:pt x="240" y="148"/>
                  </a:cubicBezTo>
                  <a:cubicBezTo>
                    <a:pt x="246" y="169"/>
                    <a:pt x="321" y="148"/>
                    <a:pt x="336" y="196"/>
                  </a:cubicBezTo>
                  <a:cubicBezTo>
                    <a:pt x="351" y="244"/>
                    <a:pt x="356" y="380"/>
                    <a:pt x="328" y="436"/>
                  </a:cubicBezTo>
                  <a:lnTo>
                    <a:pt x="48" y="436"/>
                  </a:lnTo>
                  <a:close/>
                </a:path>
              </a:pathLst>
            </a:custGeom>
            <a:solidFill>
              <a:srgbClr val="0000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9795960" y="4952880"/>
              <a:ext cx="469800" cy="155520"/>
            </a:xfrm>
            <a:prstGeom prst="cube">
              <a:avLst>
                <a:gd name="adj" fmla="val 79388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754480" y="5153040"/>
              <a:ext cx="2364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Hitelesítést végz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 </a:t>
              </a: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szervezetek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(kontrolle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9950400" y="4792680"/>
              <a:ext cx="532080" cy="274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945040" y="4576680"/>
            <a:ext cx="1806840" cy="1474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945040" y="2200320"/>
            <a:ext cx="1800360" cy="1414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802480" y="3713040"/>
            <a:ext cx="215640" cy="719280"/>
          </a:xfrm>
          <a:prstGeom prst="upDownArrow">
            <a:avLst>
              <a:gd name="adj1" fmla="val 50000"/>
              <a:gd name="adj2" fmla="val 66402"/>
            </a:avLst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1760" y="2705040"/>
            <a:ext cx="172872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-55080" bIns="-55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7745400" y="5008680"/>
            <a:ext cx="20160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-55080" bIns="-55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9" descr="husk_logo_hu"/>
          <p:cNvPicPr/>
          <p:nvPr/>
        </p:nvPicPr>
        <p:blipFill>
          <a:blip r:embed="rId4"/>
          <a:stretch/>
        </p:blipFill>
        <p:spPr>
          <a:xfrm>
            <a:off x="7896240" y="0"/>
            <a:ext cx="341964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3400" y="54468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IMIR 2007-2013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monitoring és információs rendsz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Partneri jelentések készítésének és benyújtásának módja (partner)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100" spc="-1" strike="noStrike">
                <a:solidFill>
                  <a:srgbClr val="006666"/>
                </a:solidFill>
                <a:latin typeface="Calibri"/>
              </a:rPr>
              <a:t>elektronikusan: IMIR 2007-2013 Front Office felületén keresztül, é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100" spc="-1" strike="noStrike">
                <a:solidFill>
                  <a:srgbClr val="006666"/>
                </a:solidFill>
                <a:latin typeface="Calibri"/>
              </a:rPr>
              <a:t>papír alapon: IMIR 2007-2013 Front Office felületén generált riportokka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Partneri jelentés ellenőrzésének és hitelesítésének módja (kontroller)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100" spc="-1" strike="noStrike">
                <a:solidFill>
                  <a:srgbClr val="006666"/>
                </a:solidFill>
                <a:latin typeface="Calibri"/>
              </a:rPr>
              <a:t>IMIR 2007-2013 Back Office részébe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Partneri jelentés beérkezési határideje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100" spc="-1" strike="noStrike">
                <a:solidFill>
                  <a:srgbClr val="006666"/>
                </a:solidFill>
                <a:latin typeface="Calibri"/>
              </a:rPr>
              <a:t>A papír alapú dokumentumok beérkezése (nem az elektronikus benyújtás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924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9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924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artneri jelentés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benyújtásának feltéte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A partneri jelentés benyújtásának feltétele az alábbi dokumentumok beküldése a Társfinanszírozási támogatási szerződés kötése folyamán: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1. Pályázati formanyomtatvá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2. Főszerződ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3. Partnerségi megállapod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4. Nyilatkozat a szervezet adatairó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5. Nyilatkozat a hazai partner bankszámláiró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6. ÁFA nyilatkoz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i="1" lang="hu-HU" sz="2000" spc="-1" strike="noStrike">
                <a:solidFill>
                  <a:srgbClr val="006666"/>
                </a:solidFill>
                <a:latin typeface="Calibri"/>
              </a:rPr>
              <a:t>(Fenti dokumentumok alapján a kontrollerek létrehozzák a projektrészt a Back Office-ban, mely lehetővé teszi a Front Office felület megnyitását a partnerek részére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Front Office felület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megnyitása, használat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900" spc="-1" strike="noStrike">
                <a:solidFill>
                  <a:srgbClr val="006666"/>
                </a:solidFill>
                <a:latin typeface="Calibri"/>
              </a:rPr>
              <a:t>Front Office megnyitása: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Tájékoztató e-mail a partnerek részé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E-mail tartalma: FO kézikönyv, internet link, User name, password, biztonsági kul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900" spc="-1" strike="noStrike">
                <a:solidFill>
                  <a:srgbClr val="006666"/>
                </a:solidFill>
                <a:latin typeface="Calibri"/>
              </a:rPr>
              <a:t>Front Office használata: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Elérése kizárólag egyéni User name és password használatával, projektrészenként külön-külö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900" spc="-1" strike="noStrike">
                <a:solidFill>
                  <a:srgbClr val="006666"/>
                </a:solidFill>
                <a:latin typeface="Calibri"/>
              </a:rPr>
              <a:t>Segédletek és segítség nyújtása: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Részletes FO kézikönyv a Partnerek részre (e-mail, reporting package és </a:t>
            </a:r>
            <a:r>
              <a:rPr b="0" lang="hu-HU" sz="24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vati.hu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Telefonon/e-mailen elérhetőek vagyunk munkaidő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3400" y="18432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FRONT OFF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ontent Placeholder 2"/>
          <p:cNvSpPr/>
          <p:nvPr/>
        </p:nvSpPr>
        <p:spPr>
          <a:xfrm>
            <a:off x="185760" y="1263600"/>
            <a:ext cx="489744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lvl="1" marL="921240" indent="-496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66cc"/>
                </a:solidFill>
                <a:latin typeface="Calibri"/>
              </a:rPr>
              <a:t>Egyszerű menüstruktú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Create new Partner Report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</a:t>
            </a:r>
            <a:r>
              <a:rPr b="1" lang="hu-HU" sz="1800" spc="-1" strike="noStrike">
                <a:solidFill>
                  <a:srgbClr val="ff0000"/>
                </a:solidFill>
                <a:latin typeface="Calibri"/>
              </a:rPr>
              <a:t>mindig a TSZ szerinti megfelelő period-ot kell kiválasztani jelentések összevonásánál, 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illetve</a:t>
            </a:r>
            <a:r>
              <a:rPr b="0" lang="hu-HU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mindig egy </a:t>
            </a:r>
            <a:r>
              <a:rPr b="1" lang="hu-HU" sz="1800" spc="-1" strike="noStrike">
                <a:solidFill>
                  <a:srgbClr val="ff0000"/>
                </a:solidFill>
                <a:latin typeface="Calibri"/>
              </a:rPr>
              <a:t>új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 jelentés-készítési folyamat indul e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Continue Partner Report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korábban már elkezdett jelentés </a:t>
            </a:r>
            <a:r>
              <a:rPr b="1" lang="hu-HU" sz="1800" spc="-1" strike="noStrike">
                <a:solidFill>
                  <a:srgbClr val="ff0000"/>
                </a:solidFill>
                <a:latin typeface="Calibri"/>
              </a:rPr>
              <a:t>folytatására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 szolgá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Amend Partner Report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partneri jelentés </a:t>
            </a:r>
            <a:r>
              <a:rPr b="1" lang="hu-HU" sz="1800" spc="-1" strike="noStrike">
                <a:solidFill>
                  <a:srgbClr val="ff0000"/>
                </a:solidFill>
                <a:latin typeface="Calibri"/>
              </a:rPr>
              <a:t>hiánypótlására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 szolgá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View Partner Reports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minden partneri jelentés megtekinté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Change Password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jelszó módosítására szolgá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Exit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kilépés a FO felületrő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010120" y="1623960"/>
            <a:ext cx="6093000" cy="47768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7602480" y="2055960"/>
            <a:ext cx="3149640" cy="2344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6281640" y="4721400"/>
            <a:ext cx="5034240" cy="142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209760" y="1623960"/>
            <a:ext cx="6264360" cy="52675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3400" y="39960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artneri jelentés –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Nyitóolda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402840" y="1913040"/>
            <a:ext cx="241200" cy="920520"/>
          </a:xfrm>
          <a:custGeom>
            <a:avLst/>
            <a:gdLst>
              <a:gd name="textAreaLeft" fmla="*/ 0 w 241200"/>
              <a:gd name="textAreaRight" fmla="*/ 87120 w 241200"/>
              <a:gd name="textAreaTop" fmla="*/ 23760 h 920520"/>
              <a:gd name="textAreaBottom" fmla="*/ 896760 h 92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690120" y="2200320"/>
            <a:ext cx="1442880" cy="36684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Fejlé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8680" y="4851360"/>
            <a:ext cx="2449440" cy="109368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Attachments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fül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Dokument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menedz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8680" y="3495600"/>
            <a:ext cx="2430360" cy="93672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Sheets to fill in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fül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Adatbevi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8680" y="2200320"/>
            <a:ext cx="2449440" cy="90000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Overview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fül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Report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áttekin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78120" y="2776680"/>
            <a:ext cx="711360" cy="137880"/>
          </a:xfrm>
          <a:prstGeom prst="line">
            <a:avLst/>
          </a:prstGeom>
          <a:ln w="1260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778120" y="3006720"/>
            <a:ext cx="1352520" cy="922320"/>
          </a:xfrm>
          <a:prstGeom prst="line">
            <a:avLst/>
          </a:prstGeom>
          <a:ln w="1260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778120" y="3006720"/>
            <a:ext cx="1913040" cy="2433600"/>
          </a:xfrm>
          <a:prstGeom prst="line">
            <a:avLst/>
          </a:prstGeom>
          <a:ln w="1260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713040" y="1479600"/>
            <a:ext cx="6481800" cy="54514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62120" y="2631960"/>
            <a:ext cx="2447640" cy="863640"/>
          </a:xfrm>
          <a:prstGeom prst="rect">
            <a:avLst/>
          </a:prstGeom>
          <a:noFill/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Megvalósított tevékenység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9040" y="260280"/>
            <a:ext cx="1000908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Partneri jelentés – </a:t>
            </a:r>
            <a:br>
              <a:rPr sz="4400"/>
            </a:b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Adatbeviteli fü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3713040"/>
            <a:ext cx="2516040" cy="100836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Pénzügyi elszámol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4937040"/>
            <a:ext cx="2590560" cy="93528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Pénzügyi nyom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köve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9760" y="3137040"/>
            <a:ext cx="280836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9760" y="3784680"/>
            <a:ext cx="2808360" cy="43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81400" y="4216320"/>
            <a:ext cx="2736720" cy="57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rcRect l="25904" t="28461" r="72035" b="67918"/>
          <a:stretch/>
        </p:blipFill>
        <p:spPr>
          <a:xfrm>
            <a:off x="6089760" y="3639960"/>
            <a:ext cx="550800" cy="721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rcRect l="25904" t="34880" r="71527" b="59012"/>
          <a:stretch/>
        </p:blipFill>
        <p:spPr>
          <a:xfrm>
            <a:off x="7962840" y="7095960"/>
            <a:ext cx="538200" cy="720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745400" y="6593040"/>
            <a:ext cx="100800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753400" y="6593040"/>
            <a:ext cx="792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5"/>
          <a:srcRect l="25904" t="42336" r="70712" b="51371"/>
          <a:stretch/>
        </p:blipFill>
        <p:spPr>
          <a:xfrm>
            <a:off x="8826480" y="7095960"/>
            <a:ext cx="625320" cy="649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husk_logo_hu"/>
          <p:cNvPicPr/>
          <p:nvPr/>
        </p:nvPicPr>
        <p:blipFill>
          <a:blip r:embed="rId6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7"/>
          <a:stretch/>
        </p:blipFill>
        <p:spPr>
          <a:xfrm>
            <a:off x="7242120" y="4863960"/>
            <a:ext cx="255276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3:57:28Z</dcterms:created>
  <dc:creator>vati user</dc:creator>
  <dc:description/>
  <dc:language>en-US</dc:language>
  <cp:lastModifiedBy>bagiszonja</cp:lastModifiedBy>
  <dcterms:modified xsi:type="dcterms:W3CDTF">2012-10-17T12:22:52Z</dcterms:modified>
  <cp:revision>225</cp:revision>
  <dc:subject/>
  <dc:title>1. dia</dc:title>
</cp:coreProperties>
</file>